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657-4993-4EB5-901D-1E873B5D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822-797F-4D8C-8AA8-7DAD13AF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E48-2AF5-440C-B950-855548EA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612-D3E9-42D7-8486-AE2F0041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A2C-78A6-4840-BE8C-66330E08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5CA-71EA-445B-8A26-D650860B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570-236C-4BDF-895D-0BDA3C7E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449-3E0F-4342-8BDA-A81D57F5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EFA-CB15-48FB-9B16-91527DC8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447-4D17-47B6-916E-7B1244F6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35A-53AD-4F46-8C85-29ABE877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5F8-2ED5-446B-BD2D-6D32CE78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B35E-096C-4A8C-9BFC-3B9240CD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1/hi/education/3720040.s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4360" y="836640"/>
            <a:ext cx="784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paration of the 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ednesday 25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4360" y="836640"/>
            <a:ext cx="7848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ental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ing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hea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of arou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836640"/>
            <a:ext cx="78483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ing emo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you can manage your emotions, you can perform at your bes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effect does pressure/stress have on your perform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happens if you are very nervous before perform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of a sporting situation which was stressful for the perfor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4360" y="83664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5977080" cy="3378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558972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can we ensure we perform to the best of our ab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692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s of mental arou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836640"/>
            <a:ext cx="784836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al rehea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formers use mental imagery and mental rehearsal to ensure pea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ews.bbc.co.uk/1/hi/education/3720040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4360" y="836640"/>
            <a:ext cx="784836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eate a mind map detailing the aspects and types of fitness required in Hoc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2708280"/>
            <a:ext cx="2663640" cy="122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tness requirement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d-field player in ho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4653000"/>
            <a:ext cx="1512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ll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32720" y="4724280"/>
            <a:ext cx="1512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1773360"/>
            <a:ext cx="1512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9280" y="4076640"/>
            <a:ext cx="2089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556000" y="4005360"/>
            <a:ext cx="1295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276640"/>
            <a:ext cx="1655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836640"/>
            <a:ext cx="7848360" cy="73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mework du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dnesday 1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tS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d Map – F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ysical, skill-relate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ntal fitnes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all required for successful performance.  With reference to your chosen activity, describe why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e asp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s of fitn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836640"/>
            <a:ext cx="784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 ai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e uni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YPES of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836640"/>
            <a:ext cx="784836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paration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above statement with a partner.  Write down key words or phrases you associate with Preparation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have five minutes to complete thi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836640"/>
            <a:ext cx="78483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eparation of the b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focus =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an improved fitness help improve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836640"/>
            <a:ext cx="784836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ypes of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three TYPES of fitness.  Within these types there are specific ASPECTS of f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the three TYPES of fitness and define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836640"/>
            <a:ext cx="7848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ypes of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ill related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ntal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4360" y="836640"/>
            <a:ext cx="784836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hysical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the six aspects of physical fitness and give definitions for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Give a reason each of these aspects are important in hock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Circle the two aspects you think are most important in hockey.  Give reasons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4360" y="836640"/>
            <a:ext cx="7848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hysical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dio respiratory end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 muscular end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xi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836640"/>
            <a:ext cx="784836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kill related fitn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gility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-ordinatio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c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vement an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0:48:31Z</dcterms:created>
  <dc:creator>hamiltonp</dc:creator>
  <dc:description/>
  <dc:language>en-US</dc:language>
  <cp:lastModifiedBy>hamiltonp</cp:lastModifiedBy>
  <dcterms:modified xsi:type="dcterms:W3CDTF">2010-08-25T09:36:46Z</dcterms:modified>
  <cp:revision>5</cp:revision>
  <dc:subject/>
  <dc:title>Slide 1</dc:title>
</cp:coreProperties>
</file>